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: Selecting Noticing Tar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B3D5-80DA-4A4B-938A-6E7810D9F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C532-E401-4BA0-9D29-84E03823D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526572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Header Placeholder 6"/>
          <p:cNvSpPr/>
          <p:nvPr/>
        </p:nvSpPr>
        <p:spPr>
          <a:xfrm>
            <a:off x="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: Selecting Noticing Tar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85D-09AB-4DA4-8C21-BE8D8B70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185-5F72-4596-B3D1-88ECBA34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619-7AF4-4A03-803B-FD44009D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68A-ED59-463A-927C-0F78188D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993-A05E-4F86-ADBD-D748CEC9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30D-4731-45B5-B282-0ACF6669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4F3-54F9-4E8B-9DC2-84613EBB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1E6-4051-4B70-A146-B1DE2B0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8B9-9D9E-4A9E-B14D-CFD5CA2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711-ACB3-401E-A28A-DE0C2F3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D71-F9D2-4B85-A6C8-933ECC6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323-95B7-4BC7-A9FD-F07DE9E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7B7D-7F84-4069-8916-CDD219B67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ch teacher on the P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collaboration with the other members of the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support from the consul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5"/>
          <p:cNvSpPr/>
          <p:nvPr/>
        </p:nvSpPr>
        <p:spPr>
          <a:xfrm>
            <a:off x="838080" y="2590920"/>
            <a:ext cx="3200400" cy="2666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ortly after YACHDAV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le 6"/>
          <p:cNvSpPr/>
          <p:nvPr/>
        </p:nvSpPr>
        <p:spPr>
          <a:xfrm>
            <a:off x="838080" y="2590920"/>
            <a:ext cx="3200400" cy="2666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each from Knowing, Doing, Believing &amp; Belo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ed to priority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ed to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2440" y="2720880"/>
            <a:ext cx="2939760" cy="24094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2971800" y="533520"/>
            <a:ext cx="3200400" cy="6858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ority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4419720" y="1295280"/>
            <a:ext cx="399960" cy="335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514600" y="1676520"/>
            <a:ext cx="4038480" cy="106668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or Create 4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04920" y="3733920"/>
            <a:ext cx="2133360" cy="9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NOW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7"/>
          <p:cNvSpPr/>
          <p:nvPr/>
        </p:nvSpPr>
        <p:spPr>
          <a:xfrm>
            <a:off x="2514600" y="3657600"/>
            <a:ext cx="213372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6"/>
          <p:cNvSpPr/>
          <p:nvPr/>
        </p:nvSpPr>
        <p:spPr>
          <a:xfrm>
            <a:off x="4648320" y="3657600"/>
            <a:ext cx="213336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LIEV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48"/>
          <p:cNvSpPr/>
          <p:nvPr/>
        </p:nvSpPr>
        <p:spPr>
          <a:xfrm>
            <a:off x="6858000" y="3657600"/>
            <a:ext cx="213372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ELONG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42"/>
          <p:cNvSpPr/>
          <p:nvPr/>
        </p:nvSpPr>
        <p:spPr>
          <a:xfrm flipV="1">
            <a:off x="1523880" y="2743200"/>
            <a:ext cx="1752840" cy="9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44"/>
          <p:cNvSpPr/>
          <p:nvPr/>
        </p:nvSpPr>
        <p:spPr>
          <a:xfrm flipV="1">
            <a:off x="3580560" y="2743200"/>
            <a:ext cx="76212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46"/>
          <p:cNvSpPr/>
          <p:nvPr/>
        </p:nvSpPr>
        <p:spPr>
          <a:xfrm flipH="1" flipV="1">
            <a:off x="5257800" y="2743200"/>
            <a:ext cx="4572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48"/>
          <p:cNvSpPr/>
          <p:nvPr/>
        </p:nvSpPr>
        <p:spPr>
          <a:xfrm flipH="1" flipV="1">
            <a:off x="6172200" y="2743200"/>
            <a:ext cx="175248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9"/>
          <p:cNvSpPr/>
          <p:nvPr/>
        </p:nvSpPr>
        <p:spPr>
          <a:xfrm>
            <a:off x="1523880" y="54100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ME TARGETS ALL Y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velopmental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365040" y="1596960"/>
            <a:ext cx="8340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of Notic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9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75" name="Diagram 10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on Proc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criteria and select targets according to th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ited to strengths of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gnment with congregational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e of the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e &amp; content of approach to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between targets in different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on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k intuitivel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which targets “make sense” to you for your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rofessional jud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criteria and see how your choices hold up to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36:42Z</dcterms:created>
  <dc:creator> </dc:creator>
  <dc:description/>
  <dc:language>en-US</dc:language>
  <cp:lastModifiedBy>marxa</cp:lastModifiedBy>
  <dcterms:modified xsi:type="dcterms:W3CDTF">2009-11-12T17:09:38Z</dcterms:modified>
  <cp:revision>32</cp:revision>
  <dc:subject/>
  <dc:title>Slide 1</dc:title>
</cp:coreProperties>
</file>